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2F84-9EFB-4184-8075-9157AD3C2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3EF2-FF37-4CC4-9A20-5FF541B4188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D07-935C-48FD-9898-C3BEBB9E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C15-1068-4942-8A76-2FFBF4F3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417-4104-40F4-8CB2-93812E8C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257-EAB5-42C4-A807-C1B2DB10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864D-58C6-46D1-B7B8-842D060B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A96B-F5B0-4AB2-AB6B-1996D0D5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884-D2CD-4ACE-B27A-0012AF7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E02A-D8C2-434F-9725-EF59FC0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3CCF-B358-4463-BE63-0F70AE66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2DB9-3FD0-4539-9CEF-5168E79D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72BA-4951-43B9-8C96-F557BEF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810-E2CE-4E01-9809-4DB725B7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71B3-4187-4658-88F9-CB774A80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3619-BD4E-4E8C-905E-26A6A40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8985-88CE-4B66-BBA7-41E22D6F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3478-E96B-4874-B354-00BE2D41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25C7-F6A1-46B4-9FB2-F4CE4326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01D-037B-4422-90D2-1CC5E55B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A40-DFF2-4DE4-B7F8-4F27F197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143-0A9D-4D30-8FB5-FEE0FA12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EFC-BED6-4DD3-89D4-A12569A0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2EA-C14A-4D30-AD80-923734F9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3AA-E65F-4000-A1F4-0795CFB0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760-8269-4A61-BD47-34F6792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e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8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2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295e7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295e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c1ce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1cee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0D9C-43FE-4A8B-9721-99592051FB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e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0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2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295e7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c1ce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1cee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6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982D-E514-4A4A-B530-F6329C76606F}" type="slidenum"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a/Homeric_Greece.svg" TargetMode="External"/><Relationship Id="rId2" Type="http://schemas.openxmlformats.org/officeDocument/2006/relationships/image" Target="../media/image29.png"/><Relationship Id="rId3" Type="http://schemas.openxmlformats.org/officeDocument/2006/relationships/hyperlink" Target="http://upload.wikimedia.org/wikipedia/commons/9/9a/Homeric_Greece.svg" TargetMode="External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einrich-Schliemann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www.panoramio.com/photo/35403604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www.panoramio.com/photo/38991918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panoramio.com/photo/26351964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www.panoramio.com/photo/15251268" TargetMode="External"/><Relationship Id="rId11" Type="http://schemas.openxmlformats.org/officeDocument/2006/relationships/image" Target="../media/image22.jpeg"/><Relationship Id="rId12" Type="http://schemas.openxmlformats.org/officeDocument/2006/relationships/hyperlink" Target="http://www.panoramio.com/photo/1296726" TargetMode="External"/><Relationship Id="rId13" Type="http://schemas.openxmlformats.org/officeDocument/2006/relationships/image" Target="../media/image23.jpeg"/><Relationship Id="rId14" Type="http://schemas.openxmlformats.org/officeDocument/2006/relationships/hyperlink" Target="http://www.panoramio.com/photo/38323314" TargetMode="External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Triumph_of_Achilles_in_Corfu_Achilleion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en.wikipedia.org/wiki/File:Hydria_Achilles_weapons_Louvre_E869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en.wikipedia.org/wiki/File:Mykonos_vase.jpg" TargetMode="External"/><Relationship Id="rId6" Type="http://schemas.openxmlformats.org/officeDocument/2006/relationships/image" Target="../media/image27.jpeg"/><Relationship Id="rId7" Type="http://schemas.openxmlformats.org/officeDocument/2006/relationships/hyperlink" Target="http://en.wikipedia.org/wiki/File:Trojan_horse_&#199;anakkale.jpg" TargetMode="External"/><Relationship Id="rId8" Type="http://schemas.openxmlformats.org/officeDocument/2006/relationships/image" Target="../media/image28.jpeg"/><Relationship Id="rId9" Type="http://schemas.openxmlformats.org/officeDocument/2006/relationships/hyperlink" Target="http://www.google.com/url?sa=t&amp;source=video&amp;cd=1&amp;ved=0CDAQtwIwAA&amp;url=http%3A%2F%2Fwww.youtube.com%2Fwatch%3Fv%3Dhf4IoxEUmHM&amp;ei=1UvdTIGDJYL48AaagKXvDw&amp;usg=AFQjCNFwUPYJpZnT1eyKKbI4FVJv1iosdA" TargetMode="External"/><Relationship Id="rId10" Type="http://schemas.openxmlformats.org/officeDocument/2006/relationships/hyperlink" Target="http://www.youtube.com/watch?v=dWkSvtwCtqM&amp;safety_mode=true&amp;persist_safety_mode=1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cc00"/>
                </a:solidFill>
                <a:latin typeface="Times New Roman"/>
              </a:rPr>
              <a:t>Classical Civilizations: Greece</a:t>
            </a:r>
            <a:endParaRPr b="0" lang="en-US" sz="6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SECTION 1 Cultures of the 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Mountains and the Sea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Mr. Pagliaro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66"/>
                </a:solidFill>
                <a:latin typeface="Arial"/>
              </a:rPr>
              <a:t>Seymour High School</a:t>
            </a:r>
            <a:endParaRPr b="0" lang="en-US" sz="23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File:Homeric Greece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829800" cy="68263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9"/>
          <p:cNvGrpSpPr/>
          <p:nvPr/>
        </p:nvGrpSpPr>
        <p:grpSpPr>
          <a:xfrm>
            <a:off x="304920" y="380880"/>
            <a:ext cx="8534160" cy="5910480"/>
            <a:chOff x="304920" y="380880"/>
            <a:chExt cx="8534160" cy="5910480"/>
          </a:xfrm>
        </p:grpSpPr>
        <p:pic>
          <p:nvPicPr>
            <p:cNvPr id="150" name="Picture 7" descr="File:Homeric Greece.svg">
              <a:hlinkClick r:id="rId3"/>
            </p:cNvPr>
            <p:cNvPicPr/>
            <p:nvPr/>
          </p:nvPicPr>
          <p:blipFill>
            <a:blip r:embed="rId4"/>
            <a:srcRect l="53411" t="2665" r="972" b="57335"/>
            <a:stretch/>
          </p:blipFill>
          <p:spPr>
            <a:xfrm>
              <a:off x="762120" y="380880"/>
              <a:ext cx="8076960" cy="59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8"/>
            <p:cNvSpPr/>
            <p:nvPr/>
          </p:nvSpPr>
          <p:spPr>
            <a:xfrm>
              <a:off x="304920" y="2019240"/>
              <a:ext cx="1600200" cy="60984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128074"/>
                <a:gd name="adj5" fmla="val 306250"/>
                <a:gd name="adj6" fmla="val 152379"/>
              </a:avLst>
            </a:prstGeom>
            <a:solidFill>
              <a:srgbClr val="c3dfe9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95e70"/>
                  </a:solidFill>
                  <a:latin typeface="Arial"/>
                </a:rPr>
                <a:t>Hellespont</a:t>
              </a:r>
              <a:endParaRPr b="0" lang="en-US" sz="20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sical Greek Trade Rout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066680" y="1760400"/>
            <a:ext cx="6782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9"/>
          <p:cNvSpPr/>
          <p:nvPr/>
        </p:nvSpPr>
        <p:spPr>
          <a:xfrm>
            <a:off x="152280" y="5867280"/>
            <a:ext cx="4953240" cy="825480"/>
          </a:xfrm>
          <a:prstGeom prst="rect">
            <a:avLst/>
          </a:prstGeom>
          <a:solidFill>
            <a:srgbClr val="80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d Homer’s epics to discover Troy and other Mycenaean sites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Heinrich Schliemann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&amp; Tro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6" name="Picture 5" descr="150px-Heinrich-Schlieman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981080"/>
            <a:ext cx="2833920" cy="3294360"/>
          </a:xfrm>
          <a:prstGeom prst="rect">
            <a:avLst/>
          </a:prstGeom>
          <a:ln w="0">
            <a:noFill/>
          </a:ln>
        </p:spPr>
      </p:pic>
      <p:sp>
        <p:nvSpPr>
          <p:cNvPr id="157" name="WordArt 8"/>
          <p:cNvSpPr txBox="1"/>
          <p:nvPr/>
        </p:nvSpPr>
        <p:spPr>
          <a:xfrm>
            <a:off x="457200" y="4800600"/>
            <a:ext cx="2666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inrich</a:t>
            </a:r>
            <a:endParaRPr b="0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chliemann</a:t>
            </a:r>
            <a:endParaRPr b="0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8" name="Picture 10" descr="200px-MaskeAgamemnon"/>
          <p:cNvPicPr/>
          <p:nvPr/>
        </p:nvPicPr>
        <p:blipFill>
          <a:blip r:embed="rId3"/>
          <a:stretch/>
        </p:blipFill>
        <p:spPr>
          <a:xfrm>
            <a:off x="3505320" y="1828800"/>
            <a:ext cx="1904760" cy="1924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1"/>
          <p:cNvSpPr/>
          <p:nvPr/>
        </p:nvSpPr>
        <p:spPr>
          <a:xfrm>
            <a:off x="3505320" y="38098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ask of Agamemnon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0" name="Picture 13" descr="220px-Troy1"/>
          <p:cNvPicPr/>
          <p:nvPr/>
        </p:nvPicPr>
        <p:blipFill>
          <a:blip r:embed="rId4"/>
          <a:stretch/>
        </p:blipFill>
        <p:spPr>
          <a:xfrm>
            <a:off x="5486400" y="20574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350px-Plan_Troy-Hisarlik-en"/>
          <p:cNvPicPr/>
          <p:nvPr/>
        </p:nvPicPr>
        <p:blipFill>
          <a:blip r:embed="rId5"/>
          <a:stretch/>
        </p:blipFill>
        <p:spPr>
          <a:xfrm>
            <a:off x="3352680" y="1630440"/>
            <a:ext cx="5791320" cy="5227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200px-Troy_VIIb_hieroglyphic_seal_reverse"/>
          <p:cNvPicPr/>
          <p:nvPr/>
        </p:nvPicPr>
        <p:blipFill>
          <a:blip r:embed="rId6"/>
          <a:stretch/>
        </p:blipFill>
        <p:spPr>
          <a:xfrm>
            <a:off x="7238880" y="0"/>
            <a:ext cx="19051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e Greek Oral Tradition: Storytell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726840"/>
          </a:xfrm>
          <a:prstGeom prst="rect">
            <a:avLst/>
          </a:prstGeom>
          <a:solidFill>
            <a:srgbClr val="ffe066"/>
          </a:solidFill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esop-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. 600s BC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708ed1">
              <a:alpha val="7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bl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ell moral tales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ught value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4720" y="1447560"/>
            <a:ext cx="4041720" cy="726840"/>
          </a:xfrm>
          <a:prstGeom prst="rect">
            <a:avLst/>
          </a:prstGeom>
          <a:solidFill>
            <a:srgbClr val="ffe066"/>
          </a:solidFill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omer-</a:t>
            </a:r>
            <a:br>
              <a:rPr sz="2400"/>
            </a:b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. 1100s BC/800s BC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587ac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liad &amp;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dyssey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pics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aught: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eligion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oral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alue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Greek ideal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Multiple authors?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lind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8" name="Picture 5" descr="150px-Aesop_pushkin01"/>
          <p:cNvPicPr/>
          <p:nvPr/>
        </p:nvPicPr>
        <p:blipFill>
          <a:blip r:embed="rId1"/>
          <a:stretch/>
        </p:blipFill>
        <p:spPr>
          <a:xfrm>
            <a:off x="2362320" y="3352680"/>
            <a:ext cx="1768320" cy="266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http://upload.wikimedia.org/wikipedia/commons/thumb/0/0b/William-Adolphe_Bouguereau_%281825-1905%29_-_Homer_and_his_Guide_%281874%29.jpg/250px-William-Adolphe_Bouguereau_%281825-1905%29_-_Homer_and_his_Guide_%281874%29.jpg"/>
          <p:cNvPicPr/>
          <p:nvPr/>
        </p:nvPicPr>
        <p:blipFill>
          <a:blip r:embed="rId2"/>
          <a:stretch/>
        </p:blipFill>
        <p:spPr>
          <a:xfrm>
            <a:off x="6858000" y="2209680"/>
            <a:ext cx="1712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Dorian Inva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solidFill>
            <a:srgbClr val="00549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C. 1200 BC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3300"/>
                </a:solidFill>
                <a:latin typeface="Arial"/>
              </a:rPr>
              <a:t>End of Mycenaean culture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Major cities burned (Athens and Sparta remained)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Greece entered a Dark Age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o written record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Dorian Age/Dark Age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. 1150-750 B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Indo-European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Brought iron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Less advanced than Mycenaean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3dfe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No writing </a:t>
            </a:r>
            <a:endParaRPr b="0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Mycenaeans wrote similarly to Minoan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view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Formata-Regular"/>
              </a:rPr>
              <a:t>What impact did nearness to the sea have on the development of Greece?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Why were the epics of importance to the Greeks of the Dorian period?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Identify the Mycenaean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Explain how Greek culture is based on Mycenaean, Minoan, and Dorian culture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Identify Homer and the significance of Greek Epic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ey Ter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pic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yth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rojan Wa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ame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inoa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ycenaean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einrich Schlieman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omer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esop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terranean Geograph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5" name="Picture 4" descr="File:Mediterranean Sea political map-en.svg"/>
          <p:cNvPicPr/>
          <p:nvPr/>
        </p:nvPicPr>
        <p:blipFill>
          <a:blip r:embed="rId1"/>
          <a:stretch/>
        </p:blipFill>
        <p:spPr>
          <a:xfrm>
            <a:off x="1371600" y="1752480"/>
            <a:ext cx="5943600" cy="4346640"/>
          </a:xfrm>
          <a:prstGeom prst="rect">
            <a:avLst/>
          </a:prstGeom>
          <a:ln w="0">
            <a:noFill/>
          </a:ln>
        </p:spPr>
      </p:pic>
      <p:sp>
        <p:nvSpPr>
          <p:cNvPr id="106" name="Oval 7"/>
          <p:cNvSpPr/>
          <p:nvPr/>
        </p:nvSpPr>
        <p:spPr>
          <a:xfrm>
            <a:off x="4800600" y="3429000"/>
            <a:ext cx="1447920" cy="1447920"/>
          </a:xfrm>
          <a:prstGeom prst="ellipse">
            <a:avLst/>
          </a:prstGeom>
          <a:solidFill>
            <a:srgbClr val="ffff0d">
              <a:alpha val="30000"/>
            </a:srgbClr>
          </a:solidFill>
          <a:ln w="34920">
            <a:solidFill>
              <a:srgbClr val="b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3429000" y="1981080"/>
            <a:ext cx="4038480" cy="3657600"/>
            <a:chOff x="3429000" y="1981080"/>
            <a:chExt cx="4038480" cy="3657600"/>
          </a:xfrm>
        </p:grpSpPr>
        <p:pic>
          <p:nvPicPr>
            <p:cNvPr id="108" name="Picture 4" descr="File:Mediterranean Sea political map-en.svg"/>
            <p:cNvPicPr/>
            <p:nvPr/>
          </p:nvPicPr>
          <p:blipFill>
            <a:blip r:embed="rId2"/>
            <a:srcRect l="55133" t="36820" r="16667" b="25275"/>
            <a:stretch/>
          </p:blipFill>
          <p:spPr>
            <a:xfrm>
              <a:off x="3429000" y="198108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Oval 10"/>
            <p:cNvSpPr/>
            <p:nvPr/>
          </p:nvSpPr>
          <p:spPr>
            <a:xfrm>
              <a:off x="3795480" y="2150640"/>
              <a:ext cx="3487680" cy="3213360"/>
            </a:xfrm>
            <a:prstGeom prst="ellipse">
              <a:avLst/>
            </a:prstGeom>
            <a:solidFill>
              <a:srgbClr val="ffff0d">
                <a:alpha val="30000"/>
              </a:srgbClr>
            </a:solidFill>
            <a:ln w="34920">
              <a:solidFill>
                <a:srgbClr val="b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eek Settlem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1" name="Picture 2" descr="http://upload.wikimedia.org/wikipedia/commons/e/e6/Location_greek_ancient.pn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533520" y="1828800"/>
            <a:ext cx="785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ile:AntikeGriechen1.jpg"/>
          <p:cNvPicPr/>
          <p:nvPr/>
        </p:nvPicPr>
        <p:blipFill>
          <a:blip r:embed="rId2"/>
          <a:stretch/>
        </p:blipFill>
        <p:spPr>
          <a:xfrm>
            <a:off x="914400" y="1828800"/>
            <a:ext cx="7620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gions of Gree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rcRect l="70503" t="47113" r="2001" b="12888"/>
          <a:stretch/>
        </p:blipFill>
        <p:spPr>
          <a:xfrm>
            <a:off x="533520" y="1752480"/>
            <a:ext cx="4655880" cy="381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http://upload.wikimedia.org/wikipedia/commons/thumb/b/b6/Peloponnese_modis.jpg/102px-Peloponnese_modis.jpg"/>
          <p:cNvPicPr/>
          <p:nvPr/>
        </p:nvPicPr>
        <p:blipFill>
          <a:blip r:embed="rId2"/>
          <a:stretch/>
        </p:blipFill>
        <p:spPr>
          <a:xfrm>
            <a:off x="1447920" y="3733920"/>
            <a:ext cx="906480" cy="1066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ttp://upload.wikimedia.org/wikipedia/commons/thumb/b/b6/Peloponnese_modis.jpg/102px-Peloponnese_modis.jpg"/>
          <p:cNvPicPr/>
          <p:nvPr/>
        </p:nvPicPr>
        <p:blipFill>
          <a:blip r:embed="rId3"/>
          <a:stretch/>
        </p:blipFill>
        <p:spPr>
          <a:xfrm>
            <a:off x="5181480" y="1752480"/>
            <a:ext cx="3627720" cy="4267440"/>
          </a:xfrm>
          <a:prstGeom prst="rect">
            <a:avLst/>
          </a:prstGeom>
          <a:ln w="0">
            <a:noFill/>
          </a:ln>
        </p:spPr>
      </p:pic>
      <p:sp>
        <p:nvSpPr>
          <p:cNvPr id="117" name="Line Callout 2 (No Border) 6"/>
          <p:cNvSpPr/>
          <p:nvPr/>
        </p:nvSpPr>
        <p:spPr>
          <a:xfrm>
            <a:off x="5943600" y="1066680"/>
            <a:ext cx="1447920" cy="685800"/>
          </a:xfrm>
          <a:solidFill>
            <a:srgbClr val="c3dfe9"/>
          </a:solidFill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14e"/>
                </a:solidFill>
                <a:latin typeface="Arial"/>
              </a:rPr>
              <a:t>Isthmus of Corinth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Wave 7"/>
          <p:cNvSpPr/>
          <p:nvPr/>
        </p:nvSpPr>
        <p:spPr>
          <a:xfrm>
            <a:off x="5334120" y="3200400"/>
            <a:ext cx="1600200" cy="762120"/>
          </a:xfrm>
          <a:custGeom>
            <a:avLst/>
            <a:gdLst>
              <a:gd name="textAreaLeft" fmla="*/ 0 w 1600200"/>
              <a:gd name="textAreaRight" fmla="*/ 1600560 w 16002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3dfe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414e"/>
                </a:solidFill>
                <a:latin typeface="Arial"/>
              </a:rPr>
              <a:t>Peloponnese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Greek landscap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0" name="Picture 2" descr="http://upload.wikimedia.org/wikipedia/commons/thumb/3/35/Corinth_Isthmus.jpg/200px-Corinth_Isthmus.jpg"/>
          <p:cNvPicPr/>
          <p:nvPr/>
        </p:nvPicPr>
        <p:blipFill>
          <a:blip r:embed="rId1"/>
          <a:stretch/>
        </p:blipFill>
        <p:spPr>
          <a:xfrm>
            <a:off x="533520" y="1752480"/>
            <a:ext cx="1904760" cy="254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upload.wikimedia.org/wikipedia/commons/0/03/Gulf_of_Corinth.JPG"/>
          <p:cNvPicPr/>
          <p:nvPr/>
        </p:nvPicPr>
        <p:blipFill>
          <a:blip r:embed="rId2"/>
          <a:stretch/>
        </p:blipFill>
        <p:spPr>
          <a:xfrm>
            <a:off x="2438280" y="1752480"/>
            <a:ext cx="4181760" cy="281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ile:Greece Santorini Oia Coast by day.JPG"/>
          <p:cNvPicPr/>
          <p:nvPr/>
        </p:nvPicPr>
        <p:blipFill>
          <a:blip r:embed="rId3"/>
          <a:stretch/>
        </p:blipFill>
        <p:spPr>
          <a:xfrm>
            <a:off x="3429000" y="167652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File:Pontikonisi.jpg"/>
          <p:cNvPicPr/>
          <p:nvPr/>
        </p:nvPicPr>
        <p:blipFill>
          <a:blip r:embed="rId4"/>
          <a:stretch/>
        </p:blipFill>
        <p:spPr>
          <a:xfrm>
            <a:off x="152280" y="1752480"/>
            <a:ext cx="5079960" cy="3810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upload.wikimedia.org/wikipedia/commons/thumb/7/79/Kato-Lousi-D056-0831.jpg/220px-Kato-Lousi-D056-0831.jpg"/>
          <p:cNvPicPr/>
          <p:nvPr/>
        </p:nvPicPr>
        <p:blipFill>
          <a:blip r:embed="rId5"/>
          <a:stretch/>
        </p:blipFill>
        <p:spPr>
          <a:xfrm>
            <a:off x="3809880" y="19810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http://upload.wikimedia.org/wikipedia/commons/thumb/7/7d/SamariaGorge.jpg/200px-SamariaGorge.jpg"/>
          <p:cNvPicPr/>
          <p:nvPr/>
        </p:nvPicPr>
        <p:blipFill>
          <a:blip r:embed="rId6"/>
          <a:stretch/>
        </p:blipFill>
        <p:spPr>
          <a:xfrm>
            <a:off x="1371600" y="1752480"/>
            <a:ext cx="2362320" cy="3378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http://upload.wikimedia.org/wikipedia/commons/thumb/3/39/Crete-Samaria.jpg/200px-Crete-Samaria.jpg"/>
          <p:cNvPicPr/>
          <p:nvPr/>
        </p:nvPicPr>
        <p:blipFill>
          <a:blip r:embed="rId7"/>
          <a:stretch/>
        </p:blipFill>
        <p:spPr>
          <a:xfrm>
            <a:off x="3809880" y="1752480"/>
            <a:ext cx="2667240" cy="3560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http://upload.wikimedia.org/wikipedia/commons/thumb/e/e6/Oiti05.jpg/250px-Oiti05.jpg"/>
          <p:cNvPicPr/>
          <p:nvPr/>
        </p:nvPicPr>
        <p:blipFill>
          <a:blip r:embed="rId8"/>
          <a:stretch/>
        </p:blipFill>
        <p:spPr>
          <a:xfrm>
            <a:off x="6477120" y="28954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Meandri Uvca - Zapadna Srbija"/>
          <p:cNvPicPr/>
          <p:nvPr/>
        </p:nvPicPr>
        <p:blipFill>
          <a:blip r:embed="rId9"/>
          <a:stretch/>
        </p:blipFill>
        <p:spPr>
          <a:xfrm>
            <a:off x="304920" y="1523880"/>
            <a:ext cx="3714480" cy="476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http://upload.wikimedia.org/wikipedia/commons/thumb/b/b4/Olympus_Litochoro.JPG/280px-Olympus_Litochoro.JPG"/>
          <p:cNvPicPr/>
          <p:nvPr/>
        </p:nvPicPr>
        <p:blipFill>
          <a:blip r:embed="rId10"/>
          <a:stretch/>
        </p:blipFill>
        <p:spPr>
          <a:xfrm>
            <a:off x="1752480" y="1981080"/>
            <a:ext cx="5283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eek Coastl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5" descr="Greek_Coastline_2006_09_14_10_30_03"/>
          <p:cNvPicPr/>
          <p:nvPr/>
        </p:nvPicPr>
        <p:blipFill>
          <a:blip r:embed="rId1"/>
          <a:stretch/>
        </p:blipFill>
        <p:spPr>
          <a:xfrm>
            <a:off x="380880" y="17524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Stone forms in Sithonia"/>
          <p:cNvPicPr/>
          <p:nvPr/>
        </p:nvPicPr>
        <p:blipFill>
          <a:blip r:embed="rId2"/>
          <a:stretch/>
        </p:blipFill>
        <p:spPr>
          <a:xfrm>
            <a:off x="2057400" y="1752480"/>
            <a:ext cx="2514600" cy="163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Greek coastline"/>
          <p:cNvPicPr/>
          <p:nvPr/>
        </p:nvPicPr>
        <p:blipFill>
          <a:blip r:embed="rId3"/>
          <a:stretch/>
        </p:blipFill>
        <p:spPr>
          <a:xfrm>
            <a:off x="4572000" y="1752480"/>
            <a:ext cx="2247840" cy="1685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354036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182880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3899191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34290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2635196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553080" y="3276720"/>
            <a:ext cx="2286000" cy="1409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15251268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09880" y="3429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1" descr="129672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447920" y="4952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3832331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867280" y="51055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ojan Wa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0066"/>
                </a:solidFill>
                <a:latin typeface="Arial"/>
              </a:rPr>
              <a:t>Iliad-</a:t>
            </a:r>
            <a:r>
              <a:rPr b="0" lang="en-US" sz="3100" spc="-1" strike="noStrike">
                <a:solidFill>
                  <a:srgbClr val="ff0066"/>
                </a:solidFill>
                <a:latin typeface="Arial"/>
              </a:rPr>
              <a:t>Homer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66"/>
                </a:solidFill>
                <a:latin typeface="Arial"/>
              </a:rPr>
              <a:t>Achaeans (Mycenaeans) vs. Trojans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1ce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66"/>
                </a:solidFill>
                <a:latin typeface="Arial"/>
              </a:rPr>
              <a:t>Achilles!!!</a:t>
            </a:r>
            <a:endParaRPr b="0" lang="en-US" sz="31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2" name="Picture 9" descr="350px-Triumph_of_Achilles_in_Corfu_Achille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057400"/>
            <a:ext cx="5181840" cy="23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337px-Hydria_Achilles_weapons_Louvre_E8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304920"/>
            <a:ext cx="3210120" cy="1761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300px-Mykonos_vas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495680"/>
            <a:ext cx="2857680" cy="2248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132px-Trojan_horse_%C3%87anakk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52680" y="4343400"/>
            <a:ext cx="15591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6">
            <a:hlinkClick r:id="rId9"/>
          </p:cNvPr>
          <p:cNvSpPr/>
          <p:nvPr/>
        </p:nvSpPr>
        <p:spPr>
          <a:xfrm>
            <a:off x="5257800" y="44956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3794"/>
                </a:moveTo>
                <a:lnTo>
                  <a:pt x="23201" y="10800"/>
                </a:lnTo>
                <a:lnTo>
                  <a:pt x="918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AutoShape 17">
            <a:hlinkClick r:id="rId10"/>
          </p:cNvPr>
          <p:cNvSpPr/>
          <p:nvPr/>
        </p:nvSpPr>
        <p:spPr>
          <a:xfrm>
            <a:off x="5257800" y="54100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3794"/>
                </a:moveTo>
                <a:lnTo>
                  <a:pt x="23201" y="10800"/>
                </a:lnTo>
                <a:lnTo>
                  <a:pt x="9188" y="17806"/>
                </a:lnTo>
                <a:close/>
              </a:path>
            </a:pathLst>
          </a:custGeom>
          <a:solidFill>
            <a:srgbClr val="c3d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0:27:53Z</dcterms:created>
  <dc:creator>Christopher Pagliaro</dc:creator>
  <dc:description/>
  <dc:language>en-US</dc:language>
  <cp:lastModifiedBy>Christopher Pagliaro</cp:lastModifiedBy>
  <dcterms:modified xsi:type="dcterms:W3CDTF">2010-11-16T00:49:56Z</dcterms:modified>
  <cp:revision>17</cp:revision>
  <dc:subject/>
  <dc:title>Classical Civilizations: Gree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891033</vt:lpwstr>
  </property>
</Properties>
</file>